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8D4A3-8078-4B19-9B67-78233CFE3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4F142-37F9-4EC0-BF65-C1D260E30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68FA4-1600-4173-9AA5-719541EC9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584E5-8A53-422C-9703-42CECB8D4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1C6C0-9F80-4F3B-B682-2F29ED6F9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44ABA-2727-4653-B118-490FF62FE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CBE0C-11EE-4512-95F1-1718390C1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8EAD7-6516-4044-A530-A8D13AC00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DF306-99F7-4357-8B4F-9A2F41808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FCA99-B9C5-4CE3-A4D9-AF91AFE2A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F50D3-667A-46A6-9D0E-F9409D5B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51B2D-DC39-4CC5-A53D-91A721D23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34027-ACFC-4F74-85F6-22EA925B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87F23-53C4-4136-B4C8-A914B133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8DB8D-7BCA-4BBA-B91F-34D753932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2495B-52E0-4D8E-AD8C-ADB765580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604DF-5A70-40F9-9848-04D68CCF9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8E1C2-3CC6-48CE-BA7A-430B745C4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73B6B-79A4-4334-A0E0-A5CE1E342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32B21-3C66-4851-BD9E-1E760B0BE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B04A2-73EF-4746-A27E-D23E20AB1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6DEE3-08DA-4D4B-B027-C2055048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70CB2-4F35-4A8D-B952-02C12A25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5AE6C-E111-4145-B9D0-619BC6223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BE67E-C562-4CFB-973E-BCB4092CC02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058D8-07F2-4BE5-B4EA-A4CE90C4993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00"/>
                </a:solidFill>
                <a:latin typeface="Garamond"/>
                <a:cs typeface="Traditional Arabic"/>
              </a:rPr>
              <a:t>العـدد والمعـدود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12193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buClr>
                <a:srgbClr val="91f993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91f993"/>
                </a:solidFill>
                <a:latin typeface="Garamond"/>
                <a:cs typeface="Traditional Arabic"/>
              </a:rPr>
              <a:t>العـدد والمعـدود </a:t>
            </a:r>
            <a:r>
              <a:rPr b="0" lang="ar-SA" sz="3600" spc="-1" strike="noStrike">
                <a:solidFill>
                  <a:srgbClr val="91f993"/>
                </a:solidFill>
                <a:latin typeface="Garamond"/>
                <a:cs typeface="Traditional Arabic"/>
              </a:rPr>
              <a:t>١١</a:t>
            </a:r>
            <a:r>
              <a:rPr b="0" lang="ar-SA" sz="3600" spc="-1" strike="noStrike">
                <a:solidFill>
                  <a:srgbClr val="91f993"/>
                </a:solidFill>
                <a:latin typeface="Garamond"/>
                <a:ea typeface="Traditional Arabic"/>
              </a:rPr>
              <a:t> – </a:t>
            </a:r>
            <a:r>
              <a:rPr b="0" lang="ar-SA" sz="3600" spc="-1" strike="noStrike">
                <a:solidFill>
                  <a:srgbClr val="91f993"/>
                </a:solidFill>
                <a:latin typeface="Garamond"/>
                <a:cs typeface="Traditional Arabic"/>
              </a:rPr>
              <a:t>١٢</a:t>
            </a:r>
            <a:r>
              <a:rPr b="0" lang="ar-SA" sz="3600" spc="-1" strike="noStrike">
                <a:solidFill>
                  <a:srgbClr val="91f993"/>
                </a:solidFill>
                <a:latin typeface="Garamond"/>
                <a:ea typeface="Traditional Arabic"/>
              </a:rPr>
              <a:t> </a:t>
            </a:r>
            <a:r>
              <a:rPr b="0" lang="ar-SA" sz="3600" spc="-1" strike="noStrike">
                <a:solidFill>
                  <a:srgbClr val="f8367b"/>
                </a:solidFill>
                <a:latin typeface="Garamond"/>
                <a:cs typeface="Traditional Arabic"/>
              </a:rPr>
              <a:t>يطابق</a:t>
            </a:r>
            <a:r>
              <a:rPr b="0" lang="ar-SA" sz="3600" spc="-1" strike="noStrike">
                <a:solidFill>
                  <a:srgbClr val="91f993"/>
                </a:solidFill>
                <a:latin typeface="Garamond"/>
                <a:ea typeface="Traditional Arabic"/>
              </a:rPr>
              <a:t> المعدود فى التذكير والتأنيث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388620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buClr>
                <a:srgbClr val="91f993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91f993"/>
                </a:solidFill>
                <a:latin typeface="Garamond"/>
                <a:cs typeface="Traditional Arabic"/>
              </a:rPr>
              <a:t>العـدد والمعـدود </a:t>
            </a:r>
            <a:r>
              <a:rPr b="0" lang="ar-SA" sz="3600" spc="-1" strike="noStrike">
                <a:solidFill>
                  <a:srgbClr val="91f993"/>
                </a:solidFill>
                <a:latin typeface="Garamond"/>
                <a:cs typeface="Traditional Arabic"/>
              </a:rPr>
              <a:t>١٣</a:t>
            </a:r>
            <a:r>
              <a:rPr b="0" lang="ar-SA" sz="3600" spc="-1" strike="noStrike">
                <a:solidFill>
                  <a:srgbClr val="91f993"/>
                </a:solidFill>
                <a:latin typeface="Garamond"/>
                <a:ea typeface="Traditional Arabic"/>
              </a:rPr>
              <a:t> – </a:t>
            </a:r>
            <a:r>
              <a:rPr b="0" lang="ar-SA" sz="3600" spc="-1" strike="noStrike">
                <a:solidFill>
                  <a:srgbClr val="91f993"/>
                </a:solidFill>
                <a:latin typeface="Garamond"/>
                <a:cs typeface="Traditional Arabic"/>
              </a:rPr>
              <a:t>١٩</a:t>
            </a:r>
            <a:r>
              <a:rPr b="0" lang="ar-SA" sz="3600" spc="-1" strike="noStrike">
                <a:solidFill>
                  <a:srgbClr val="91f993"/>
                </a:solidFill>
                <a:latin typeface="Garamond"/>
                <a:ea typeface="Traditional Arabic"/>
              </a:rPr>
              <a:t> </a:t>
            </a:r>
            <a:r>
              <a:rPr b="0" lang="ar-SA" sz="3600" spc="-1" strike="noStrike">
                <a:solidFill>
                  <a:srgbClr val="f8367b"/>
                </a:solidFill>
                <a:latin typeface="Garamond"/>
                <a:cs typeface="Traditional Arabic"/>
              </a:rPr>
              <a:t>يخالف</a:t>
            </a:r>
            <a:r>
              <a:rPr b="0" lang="ar-SA" sz="3600" spc="-1" strike="noStrike">
                <a:solidFill>
                  <a:srgbClr val="91f993"/>
                </a:solidFill>
                <a:latin typeface="Garamond"/>
                <a:ea typeface="Traditional Arabic"/>
              </a:rPr>
              <a:t> المعدود فى التذكير والتأنيث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95880" y="2286000"/>
            <a:ext cx="266724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buClr>
                <a:srgbClr val="f8367b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8367b"/>
                </a:solidFill>
                <a:latin typeface="Garamond"/>
                <a:cs typeface="Traditional Arabic"/>
              </a:rPr>
              <a:t>أحد عشرَ</a:t>
            </a:r>
            <a:r>
              <a:rPr b="0" lang="ar-SA" sz="3600" spc="-1" strike="noStrike">
                <a:solidFill>
                  <a:srgbClr val="e5e5ff"/>
                </a:solidFill>
                <a:latin typeface="Garamond"/>
                <a:ea typeface="Traditional Arabic"/>
              </a:rPr>
              <a:t> طالباً</a:t>
            </a:r>
            <a:br>
              <a:rPr sz="3600"/>
            </a:br>
            <a:r>
              <a:rPr b="0" lang="ar-SA" sz="3600" spc="-1" strike="noStrike">
                <a:solidFill>
                  <a:srgbClr val="f8367b"/>
                </a:solidFill>
                <a:latin typeface="Garamond"/>
                <a:cs typeface="Traditional Arabic"/>
              </a:rPr>
              <a:t>اثنا عشرَ</a:t>
            </a:r>
            <a:r>
              <a:rPr b="0" lang="ar-SA" sz="3600" spc="-1" strike="noStrike">
                <a:solidFill>
                  <a:srgbClr val="e5e5ff"/>
                </a:solidFill>
                <a:latin typeface="Garamond"/>
                <a:ea typeface="Traditional Arabic"/>
              </a:rPr>
              <a:t> مدرسا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2286000"/>
            <a:ext cx="281952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buClr>
                <a:srgbClr val="f8367b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8367b"/>
                </a:solidFill>
                <a:latin typeface="Garamond"/>
                <a:cs typeface="Traditional Arabic"/>
              </a:rPr>
              <a:t>إِحْدَى عشرةَ</a:t>
            </a:r>
            <a:r>
              <a:rPr b="0" lang="ar-SA" sz="3600" spc="-1" strike="noStrike">
                <a:solidFill>
                  <a:srgbClr val="e5e5ff"/>
                </a:solidFill>
                <a:latin typeface="Garamond"/>
                <a:ea typeface="Traditional Arabic"/>
              </a:rPr>
              <a:t> طالبةً</a:t>
            </a:r>
            <a:br>
              <a:rPr sz="3600"/>
            </a:br>
            <a:r>
              <a:rPr b="0" lang="ar-SA" sz="3600" spc="-1" strike="noStrike">
                <a:solidFill>
                  <a:srgbClr val="f8367b"/>
                </a:solidFill>
                <a:latin typeface="Garamond"/>
                <a:cs typeface="Traditional Arabic"/>
              </a:rPr>
              <a:t>اِثنتا عشرةَ</a:t>
            </a:r>
            <a:r>
              <a:rPr b="0" lang="ar-SA" sz="3600" spc="-1" strike="noStrike">
                <a:solidFill>
                  <a:srgbClr val="e5e5ff"/>
                </a:solidFill>
                <a:latin typeface="Garamond"/>
                <a:ea typeface="Traditional Arabic"/>
              </a:rPr>
              <a:t> مدرسة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71800" y="2133720"/>
            <a:ext cx="1600200" cy="1066680"/>
          </a:xfrm>
          <a:prstGeom prst="leftArrowCallout">
            <a:avLst>
              <a:gd name="adj1" fmla="val 25002"/>
              <a:gd name="adj2" fmla="val 25000"/>
              <a:gd name="adj3" fmla="val 25003"/>
              <a:gd name="adj4" fmla="val 66673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cc00"/>
                </a:solidFill>
                <a:latin typeface="Garamond"/>
                <a:cs typeface="Traditional Arabic"/>
              </a:rPr>
              <a:t>مُؤَنَّث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876920" y="2133720"/>
            <a:ext cx="1600200" cy="1066680"/>
          </a:xfrm>
          <a:prstGeom prst="rightArrowCallout">
            <a:avLst>
              <a:gd name="adj1" fmla="val 25002"/>
              <a:gd name="adj2" fmla="val 25000"/>
              <a:gd name="adj3" fmla="val 25003"/>
              <a:gd name="adj4" fmla="val 66667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cc00"/>
                </a:solidFill>
                <a:latin typeface="Garamond"/>
                <a:cs typeface="Traditional Arabic"/>
              </a:rPr>
              <a:t>مُذَكَّر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5135400"/>
            <a:ext cx="266724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buClr>
                <a:srgbClr val="f8367b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8367b"/>
                </a:solidFill>
                <a:latin typeface="Garamond"/>
                <a:cs typeface="Traditional Arabic"/>
              </a:rPr>
              <a:t>ثلاثة عشرَ</a:t>
            </a:r>
            <a:r>
              <a:rPr b="0" lang="ar-SA" sz="3600" spc="-1" strike="noStrike">
                <a:solidFill>
                  <a:srgbClr val="e5e5ff"/>
                </a:solidFill>
                <a:latin typeface="Garamond"/>
                <a:ea typeface="Traditional Arabic"/>
              </a:rPr>
              <a:t> عاملاً</a:t>
            </a:r>
            <a:br>
              <a:rPr sz="3600"/>
            </a:br>
            <a:r>
              <a:rPr b="0" lang="ar-SA" sz="3600" spc="-1" strike="noStrike">
                <a:solidFill>
                  <a:srgbClr val="f8367b"/>
                </a:solidFill>
                <a:latin typeface="Garamond"/>
                <a:cs typeface="Traditional Arabic"/>
              </a:rPr>
              <a:t>تسعة عشرَ</a:t>
            </a:r>
            <a:r>
              <a:rPr b="0" lang="ar-SA" sz="3600" spc="-1" strike="noStrike">
                <a:solidFill>
                  <a:srgbClr val="e5e5ff"/>
                </a:solidFill>
                <a:latin typeface="Garamond"/>
                <a:ea typeface="Traditional Arabic"/>
              </a:rPr>
              <a:t> كـتابا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5135400"/>
            <a:ext cx="266688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buClr>
                <a:srgbClr val="f8367b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8367b"/>
                </a:solidFill>
                <a:latin typeface="Garamond"/>
                <a:cs typeface="Traditional Arabic"/>
              </a:rPr>
              <a:t>ثلاث عشرةَ</a:t>
            </a:r>
            <a:r>
              <a:rPr b="0" lang="ar-SA" sz="3600" spc="-1" strike="noStrike">
                <a:solidFill>
                  <a:srgbClr val="e5e5ff"/>
                </a:solidFill>
                <a:latin typeface="Garamond"/>
                <a:ea typeface="Traditional Arabic"/>
              </a:rPr>
              <a:t> عاملةً</a:t>
            </a:r>
            <a:br>
              <a:rPr sz="3600"/>
            </a:br>
            <a:r>
              <a:rPr b="0" lang="ar-SA" sz="3600" spc="-1" strike="noStrike">
                <a:solidFill>
                  <a:srgbClr val="f8367b"/>
                </a:solidFill>
                <a:latin typeface="Garamond"/>
                <a:cs typeface="Traditional Arabic"/>
              </a:rPr>
              <a:t>تسع عشرةَ</a:t>
            </a:r>
            <a:r>
              <a:rPr b="0" lang="ar-SA" sz="3600" spc="-1" strike="noStrike">
                <a:solidFill>
                  <a:srgbClr val="e5e5ff"/>
                </a:solidFill>
                <a:latin typeface="Garamond"/>
                <a:ea typeface="Traditional Arabic"/>
              </a:rPr>
              <a:t> سورة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971800" y="4952880"/>
            <a:ext cx="1600200" cy="1067040"/>
          </a:xfrm>
          <a:prstGeom prst="leftArrowCallout">
            <a:avLst>
              <a:gd name="adj1" fmla="val 25002"/>
              <a:gd name="adj2" fmla="val 25000"/>
              <a:gd name="adj3" fmla="val 24994"/>
              <a:gd name="adj4" fmla="val 66673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cc00"/>
                </a:solidFill>
                <a:latin typeface="Garamond"/>
                <a:cs typeface="Traditional Arabic"/>
              </a:rPr>
              <a:t>مُؤَنَّث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876920" y="4952880"/>
            <a:ext cx="1600200" cy="1067040"/>
          </a:xfrm>
          <a:prstGeom prst="rightArrowCallout">
            <a:avLst>
              <a:gd name="adj1" fmla="val 25002"/>
              <a:gd name="adj2" fmla="val 25000"/>
              <a:gd name="adj3" fmla="val 24994"/>
              <a:gd name="adj4" fmla="val 66667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cc00"/>
                </a:solidFill>
                <a:latin typeface="Garamond"/>
                <a:cs typeface="Traditional Arabic"/>
              </a:rPr>
              <a:t>مُذَكَّر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5T16:01:42Z</dcterms:created>
  <dc:creator>End User</dc:creator>
  <dc:description/>
  <dc:language>en-US</dc:language>
  <cp:lastModifiedBy>End User</cp:lastModifiedBy>
  <dcterms:modified xsi:type="dcterms:W3CDTF">2004-09-15T16:41:30Z</dcterms:modified>
  <cp:revision>13</cp:revision>
  <dc:subject/>
  <dc:title>العـدد والمعـدود</dc:title>
</cp:coreProperties>
</file>