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680-84CE-4507-91A2-52F7069D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D9E-C6DC-4AE7-9686-6D29BE7D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A9F-26E1-4DA5-B017-93D919B0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133-71F8-4690-AFAD-5D4AB01D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BB6E-A17B-40D5-9726-233E7D9A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9A39-1BD1-4513-AEB0-1C9B0349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E095-6D5D-4EB2-B5AD-730A81E5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63A4-1CD3-448D-96E4-BF5B6BD3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5DE7-24FA-4C16-AEF3-A034089D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E98B-2932-40E5-AC04-B411ABAC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B1D9-418F-4E86-9469-E8C5FD0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5B3-5CDD-4A69-A0C4-9A6079A0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6C1A-9366-4CBE-AEFE-CA2DF7D2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8FC5-3F17-482C-A1E7-583B66F6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4C1-3885-4BFE-973C-8B83ACBA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1D26-B48F-4151-95FC-822AC987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D357-A5D3-40E0-9ABB-2FBFFEF9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FA7-69A5-4BDE-9C97-192F4DD1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8E4-7154-48AE-A74E-6B548FFC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1AF-2E6D-4392-8993-2CF1542D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841-3079-41FC-BC0D-5EC8F197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818-2E9D-4BCA-B313-62DF6DDB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398-9DB9-4422-985F-75C4B4F4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CDC-1125-4708-9E21-3626A17B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EDB6-7BCE-42C0-A480-F11A6C8355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F52A-B018-44AA-B0ED-B6D535F12D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1905120"/>
            <a:ext cx="80010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الاسم من حيث الإعراب والبنا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حركت السيارة بسر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شربت الطالبة العص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مثلة لاسم المرف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رسل الطالب 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رسالةً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 أم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رسل الطالب 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رسائلَ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 أم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رسل الطالب 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رسالتَيْنِ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 أم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قاتل جيش العدو 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مس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رسل الطالب 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رسالاتٍ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 أم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ساعد زيد 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باه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 دائما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مثلة لاسم المنصو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جئت با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لحافلة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شيت مع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جموعة من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الطالبَات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شيت مع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الطالبَ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هذه ساعة جميلة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لل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املين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جدين فق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جئت مع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أخ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أمثلة لاسم المجر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914400" y="228600"/>
          <a:ext cx="7543800" cy="6443640"/>
        </p:xfrm>
        <a:graphic>
          <a:graphicData uri="http://schemas.openxmlformats.org/drawingml/2006/table">
            <a:tbl>
              <a:tblPr/>
              <a:tblGrid>
                <a:gridCol w="2751120"/>
                <a:gridCol w="250668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اسم المجرو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اسم المنصو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اسم المرف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جرور بحرف الج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خبر 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بتد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جرور بالإضا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سم إ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خب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ابع للاسم المجر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فعول 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سم 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فعول المطل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خبر إ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فعول لأجل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فاع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فعول مع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نائب الفاع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فعول في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ابع للاسم المرف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ح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ستثن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ناد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ميي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ابع للاسم المنصو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1:59:42Z</dcterms:created>
  <dc:creator>End User</dc:creator>
  <dc:description/>
  <dc:language>en-US</dc:language>
  <cp:lastModifiedBy>End User</cp:lastModifiedBy>
  <dcterms:modified xsi:type="dcterms:W3CDTF">2004-09-28T06:31:04Z</dcterms:modified>
  <cp:revision>28</cp:revision>
  <dc:subject/>
  <dc:title>الاسم من حيث الإعراب والبناء</dc:title>
</cp:coreProperties>
</file>